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119983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92AE-EE2E-47A7-8904-9B7508F73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7960" y="1920600"/>
            <a:ext cx="107362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7960" y="4355280"/>
            <a:ext cx="107362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4E94-6CFB-4A2A-9DE0-44422A93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7960" y="192060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9480" y="192060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7960" y="435528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9480" y="435528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4172-F381-4160-A048-4393BBDFE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7960" y="1920600"/>
            <a:ext cx="345672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27840" y="1920600"/>
            <a:ext cx="345672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57720" y="1920600"/>
            <a:ext cx="345672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7960" y="4355280"/>
            <a:ext cx="345672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27840" y="4355280"/>
            <a:ext cx="345672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57720" y="4355280"/>
            <a:ext cx="345672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2B6B-9F42-4E24-97B0-59D6ACBFE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7AAB-606A-4CCA-9FAD-7C5B0E991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7960" y="1920600"/>
            <a:ext cx="1073628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4617b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82FA-5E90-4EFE-AA3B-EBEBC958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7960" y="1920600"/>
            <a:ext cx="1073628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925B-9823-48E8-AFA3-3E441B44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7960" y="1920600"/>
            <a:ext cx="523908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099480" y="1920600"/>
            <a:ext cx="523908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0141-9B1D-4226-8169-1BCE7CE8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D978-CFBE-49B8-B697-72FB9E35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7960" y="120240"/>
            <a:ext cx="107953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4617b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DB0F-B5EC-42CD-90A0-42190AFF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7960" y="192060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99480" y="1920600"/>
            <a:ext cx="523908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7960" y="435528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9C3F-9967-4C5E-A355-FC166BAC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7960" y="1920600"/>
            <a:ext cx="1073628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4617b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ABB3-7D1C-49A6-A129-B505421C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7960" y="1920600"/>
            <a:ext cx="523908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099480" y="192060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9480" y="435528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8B1C-7990-4A3E-B840-8C219821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7960" y="192060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9480" y="192060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7960" y="4355280"/>
            <a:ext cx="107362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DCB1-55A6-4628-82F9-9C743919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7960" y="1920600"/>
            <a:ext cx="107362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7960" y="4355280"/>
            <a:ext cx="107362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8D09-1A38-452E-9585-493B943B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7960" y="192060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99480" y="192060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7960" y="435528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099480" y="435528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06E8-93E5-45D9-A686-F31473688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7960" y="1920600"/>
            <a:ext cx="345672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27840" y="1920600"/>
            <a:ext cx="345672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857720" y="1920600"/>
            <a:ext cx="345672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7960" y="4355280"/>
            <a:ext cx="345672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27840" y="4355280"/>
            <a:ext cx="345672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857720" y="4355280"/>
            <a:ext cx="345672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1D19-E899-40F8-8908-F1F3975AB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02BA3-DF46-4F19-B869-08AB5B09A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7960" y="1920600"/>
            <a:ext cx="1073628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4617b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53A39-C09F-47FA-97B7-167D028E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7960" y="1920600"/>
            <a:ext cx="1073628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D624A-534B-4F7E-8160-EBDCAB1A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7960" y="1920600"/>
            <a:ext cx="523908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099480" y="1920600"/>
            <a:ext cx="523908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2096A-6B55-4D9A-BFBE-84E7266E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A8094-F532-4DE9-A7DE-964D2C0B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7960" y="1920600"/>
            <a:ext cx="1073628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3808-072B-436B-9A18-AFE4A771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7960" y="120240"/>
            <a:ext cx="107953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4617b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81178-4941-4A1E-AC11-79AB5234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7960" y="192060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099480" y="1920600"/>
            <a:ext cx="523908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7960" y="435528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FD51C-5A17-4392-A482-88B04DE5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7960" y="1920600"/>
            <a:ext cx="523908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099480" y="192060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9480" y="435528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DB8B3-00E6-47F7-A08D-C2BC11FB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7960" y="192060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099480" y="192060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7960" y="4355280"/>
            <a:ext cx="107362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D6790-1319-441C-AFC7-8422D74B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7960" y="1920600"/>
            <a:ext cx="107362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7960" y="4355280"/>
            <a:ext cx="107362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A0A65-FF04-470D-BB6B-58EFB7A9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7960" y="192060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099480" y="192060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7960" y="435528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099480" y="435528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58036-0D7F-4820-9B79-198E6E703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7960" y="1920600"/>
            <a:ext cx="345672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27840" y="1920600"/>
            <a:ext cx="345672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857720" y="1920600"/>
            <a:ext cx="345672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7960" y="4355280"/>
            <a:ext cx="345672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227840" y="4355280"/>
            <a:ext cx="345672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857720" y="4355280"/>
            <a:ext cx="345672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E1B79-4D7E-4527-BF58-FE45A7F61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7960" y="1920600"/>
            <a:ext cx="523908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99480" y="1920600"/>
            <a:ext cx="523908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A51A-8409-4D6C-95B2-3CC33F96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BAC2-DE3C-4EF1-A03F-6E97238E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7960" y="120240"/>
            <a:ext cx="107953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4617b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4504-E258-4C2B-B90B-A89993EB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7960" y="192060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99480" y="1920600"/>
            <a:ext cx="523908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7960" y="435528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BB44-CC07-4638-9271-BB5FBFBD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7960" y="1920600"/>
            <a:ext cx="523908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99480" y="192060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9480" y="435528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21C3-27C8-4B0B-8BB5-32B78AAD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7960" y="192060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9480" y="192060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7960" y="4355280"/>
            <a:ext cx="107362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BBF7-FF7B-4957-B081-26B53AC6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63040" y="6886440"/>
            <a:ext cx="2792520" cy="51912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2400" spc="-1" strike="noStrike">
                <a:solidFill>
                  <a:srgbClr val="dbf5f9"/>
                </a:solidFill>
                <a:latin typeface="Source Sans Pro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dbf5f9"/>
                </a:solidFill>
                <a:latin typeface="Source Sans Pro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66920" y="6886440"/>
            <a:ext cx="3800520" cy="51912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2400" spc="-1" strike="noStrike">
                <a:solidFill>
                  <a:srgbClr val="dbf5f9"/>
                </a:solidFill>
                <a:latin typeface="Source Sans Pro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dbf5f9"/>
                </a:solidFill>
                <a:latin typeface="Source Sans Pro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565840" y="6886440"/>
            <a:ext cx="2792520" cy="51912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2400" spc="-1" strike="noStrike">
                <a:solidFill>
                  <a:srgbClr val="dbf5f9"/>
                </a:solidFill>
                <a:latin typeface="Source Sans Pro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A6CE8-9DB6-493B-9A65-72933CE95BAF}" type="slidenum">
              <a:rPr b="0" lang="pl-PL" sz="2400" spc="-1" strike="noStrike">
                <a:solidFill>
                  <a:srgbClr val="dbf5f9"/>
                </a:solidFill>
                <a:latin typeface="Source Sans Pro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549360" y="301680"/>
            <a:ext cx="1079496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04617b"/>
                </a:solidFill>
                <a:latin typeface="Source Sans Pro Light"/>
              </a:rPr>
              <a:t>Click to edit the title text format</a:t>
            </a:r>
            <a:endParaRPr b="0" lang="en-US" sz="8000" spc="-1" strike="noStrike">
              <a:solidFill>
                <a:srgbClr val="04617b"/>
              </a:solidFill>
              <a:latin typeface="Source Sans Pro Ligh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52600" y="5216040"/>
            <a:ext cx="10787040" cy="15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marL="130320" indent="0">
              <a:lnSpc>
                <a:spcPct val="104000"/>
              </a:lnSpc>
              <a:spcAft>
                <a:spcPts val="123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dbf5f9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dbf5f9"/>
              </a:solidFill>
              <a:latin typeface="Source Sans Pro"/>
            </a:endParaRPr>
          </a:p>
          <a:p>
            <a:pPr lvl="1" marL="130320" indent="-130320">
              <a:lnSpc>
                <a:spcPct val="104000"/>
              </a:lnSpc>
              <a:spcAft>
                <a:spcPts val="123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dbf5f9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dbf5f9"/>
              </a:solidFill>
              <a:latin typeface="Source Sans Pro"/>
            </a:endParaRPr>
          </a:p>
          <a:p>
            <a:pPr lvl="2" marL="130320" indent="-130320">
              <a:lnSpc>
                <a:spcPct val="104000"/>
              </a:lnSpc>
              <a:spcAft>
                <a:spcPts val="123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dbf5f9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dbf5f9"/>
              </a:solidFill>
              <a:latin typeface="Source Sans Pro"/>
            </a:endParaRPr>
          </a:p>
          <a:p>
            <a:pPr lvl="3" marL="130320" indent="-130320">
              <a:lnSpc>
                <a:spcPct val="104000"/>
              </a:lnSpc>
              <a:spcAft>
                <a:spcPts val="123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dbf5f9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dbf5f9"/>
              </a:solidFill>
              <a:latin typeface="Source Sans Pro"/>
            </a:endParaRPr>
          </a:p>
          <a:p>
            <a:pPr lvl="4" marL="130320" indent="-130320">
              <a:lnSpc>
                <a:spcPct val="104000"/>
              </a:lnSpc>
              <a:spcAft>
                <a:spcPts val="123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dbf5f9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dbf5f9"/>
              </a:solidFill>
              <a:latin typeface="Source Sans Pro"/>
            </a:endParaRPr>
          </a:p>
          <a:p>
            <a:pPr lvl="5" marL="130320" indent="-130320">
              <a:lnSpc>
                <a:spcPct val="104000"/>
              </a:lnSpc>
              <a:spcAft>
                <a:spcPts val="123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dbf5f9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dbf5f9"/>
              </a:solidFill>
              <a:latin typeface="Source Sans Pro"/>
            </a:endParaRPr>
          </a:p>
          <a:p>
            <a:pPr lvl="6" marL="130320" indent="-130320">
              <a:lnSpc>
                <a:spcPct val="104000"/>
              </a:lnSpc>
              <a:spcAft>
                <a:spcPts val="123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dbf5f9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dbf5f9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ource Sans Pro Light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7960" y="1920600"/>
            <a:ext cx="1073628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97960" y="6886440"/>
            <a:ext cx="2792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2400" spc="-1" strike="noStrike">
                <a:solidFill>
                  <a:srgbClr val="484848"/>
                </a:solidFill>
                <a:latin typeface="Source Sans Pro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84848"/>
                </a:solidFill>
                <a:latin typeface="Source Sans Pro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01840" y="6886440"/>
            <a:ext cx="3800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2400" spc="-1" strike="noStrike">
                <a:solidFill>
                  <a:srgbClr val="484848"/>
                </a:solidFill>
                <a:latin typeface="Source Sans Pro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84848"/>
                </a:solidFill>
                <a:latin typeface="Source Sans Pro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02200" y="6886440"/>
            <a:ext cx="2792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2400" spc="-1" strike="noStrike">
                <a:solidFill>
                  <a:srgbClr val="484848"/>
                </a:solidFill>
                <a:latin typeface="Source Sans Pro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17AC4-4874-49B9-BF06-F34D3CBFCBB7}" type="slidenum">
              <a:rPr b="0" lang="pl-PL" sz="2400" spc="-1" strike="noStrike">
                <a:solidFill>
                  <a:srgbClr val="484848"/>
                </a:solidFill>
                <a:latin typeface="Source Sans Pro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7960" y="30132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Source Sans Pro Light"/>
              </a:rPr>
              <a:t>Click to edit the title text format</a:t>
            </a:r>
            <a:endParaRPr b="0" lang="en-US" sz="6000" spc="-1" strike="noStrike">
              <a:solidFill>
                <a:srgbClr val="04617b"/>
              </a:solidFill>
              <a:latin typeface="Source Sans Pro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7960" y="1828440"/>
            <a:ext cx="10828440" cy="53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97960" y="6827760"/>
            <a:ext cx="2792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2400" spc="-1" strike="noStrike">
                <a:solidFill>
                  <a:srgbClr val="484848"/>
                </a:solidFill>
                <a:latin typeface="Source Sans Pro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84848"/>
                </a:solidFill>
                <a:latin typeface="Source Sans Pro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01840" y="6827760"/>
            <a:ext cx="3800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2400" spc="-1" strike="noStrike">
                <a:solidFill>
                  <a:srgbClr val="484848"/>
                </a:solidFill>
                <a:latin typeface="Source Sans Pro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84848"/>
                </a:solidFill>
                <a:latin typeface="Source Sans Pro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9187920" y="6827760"/>
            <a:ext cx="2251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2400" spc="-1" strike="noStrike">
                <a:solidFill>
                  <a:srgbClr val="484848"/>
                </a:solidFill>
                <a:latin typeface="Source Sans Pro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C8EC5-969B-4EEA-A266-8A0B5C8F0745}" type="slidenum">
              <a:rPr b="0" lang="pl-PL" sz="2400" spc="-1" strike="noStrike">
                <a:solidFill>
                  <a:srgbClr val="484848"/>
                </a:solidFill>
                <a:latin typeface="Source Sans Pro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52600" y="5216400"/>
            <a:ext cx="1078992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dbf5f9"/>
              </a:solidFill>
              <a:latin typeface="Source Sans Pro"/>
            </a:endParaRPr>
          </a:p>
        </p:txBody>
      </p:sp>
      <p:sp>
        <p:nvSpPr>
          <p:cNvPr id="124" name=""/>
          <p:cNvSpPr/>
          <p:nvPr/>
        </p:nvSpPr>
        <p:spPr>
          <a:xfrm>
            <a:off x="2039760" y="1889280"/>
            <a:ext cx="588024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lnSpc>
                <a:spcPct val="1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8000" spc="-1" strike="noStrike">
                <a:solidFill>
                  <a:srgbClr val="729fcf"/>
                </a:solidFill>
                <a:latin typeface="Segoe Script"/>
              </a:rPr>
              <a:t>Uff, les verbes !</a:t>
            </a:r>
            <a:endParaRPr b="0" lang="en-US" sz="8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5" name=""/>
          <p:cNvSpPr/>
          <p:nvPr/>
        </p:nvSpPr>
        <p:spPr>
          <a:xfrm>
            <a:off x="9215280" y="6191280"/>
            <a:ext cx="1703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Wydawnictwo Draco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97960" y="120600"/>
            <a:ext cx="10798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98320" y="1920960"/>
            <a:ext cx="1073952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514680" y="1882800"/>
            <a:ext cx="5195880" cy="49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97960" y="120600"/>
            <a:ext cx="10798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98320" y="1920960"/>
            <a:ext cx="1073952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240000" y="1816200"/>
            <a:ext cx="5369040" cy="46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97960" y="120600"/>
            <a:ext cx="10798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98320" y="1920960"/>
            <a:ext cx="1073952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673440" y="1749600"/>
            <a:ext cx="4969080" cy="49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97960" y="120600"/>
            <a:ext cx="10798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98320" y="1920960"/>
            <a:ext cx="1073952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1" name=""/>
          <p:cNvSpPr/>
          <p:nvPr/>
        </p:nvSpPr>
        <p:spPr>
          <a:xfrm>
            <a:off x="3701880" y="3456000"/>
            <a:ext cx="44341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8000" spc="-1" strike="noStrike">
                <a:solidFill>
                  <a:srgbClr val="3465a4"/>
                </a:solidFill>
                <a:latin typeface="Source Sans Pro"/>
              </a:rPr>
              <a:t>EXERCICE</a:t>
            </a:r>
            <a:endParaRPr b="0" lang="en-US" sz="8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97960" y="120600"/>
            <a:ext cx="10798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8320" y="1920960"/>
            <a:ext cx="1073952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979800" y="1871640"/>
            <a:ext cx="4514760" cy="43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97960" y="120600"/>
            <a:ext cx="10798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98320" y="1920960"/>
            <a:ext cx="1073952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887640" y="2376360"/>
            <a:ext cx="401004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97960" y="120600"/>
            <a:ext cx="10798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98320" y="1920960"/>
            <a:ext cx="1073952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932280" y="1800360"/>
            <a:ext cx="5067360" cy="43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7960" y="120600"/>
            <a:ext cx="10798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8320" y="1920960"/>
            <a:ext cx="1073952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032360" y="1876320"/>
            <a:ext cx="4924440" cy="43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97960" y="120600"/>
            <a:ext cx="10798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98320" y="1920960"/>
            <a:ext cx="1073952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743280" y="1879560"/>
            <a:ext cx="5400720" cy="48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97960" y="120600"/>
            <a:ext cx="10798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98320" y="1920960"/>
            <a:ext cx="1073952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743280" y="1871640"/>
            <a:ext cx="566280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7960" y="120600"/>
            <a:ext cx="10798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8320" y="1920960"/>
            <a:ext cx="1073952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075200" y="2432160"/>
            <a:ext cx="3844800" cy="42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97960" y="120600"/>
            <a:ext cx="10798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49200" y="1871640"/>
            <a:ext cx="1073952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816360" y="1920960"/>
            <a:ext cx="5249880" cy="466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97960" y="120600"/>
            <a:ext cx="10798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98320" y="1920960"/>
            <a:ext cx="1073952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573360" y="1920960"/>
            <a:ext cx="5381640" cy="466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7960" y="120600"/>
            <a:ext cx="10798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8320" y="1920960"/>
            <a:ext cx="1073952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024360" y="1914480"/>
            <a:ext cx="5733720" cy="456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97960" y="120600"/>
            <a:ext cx="10798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98320" y="1920960"/>
            <a:ext cx="1073952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456000" y="1871640"/>
            <a:ext cx="6545160" cy="466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97960" y="120600"/>
            <a:ext cx="10798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98320" y="1920960"/>
            <a:ext cx="1073952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816360" y="1920960"/>
            <a:ext cx="5210280" cy="477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97960" y="120600"/>
            <a:ext cx="10798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98320" y="1920960"/>
            <a:ext cx="1073952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392720" y="2016000"/>
            <a:ext cx="3803400" cy="44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7960" y="120600"/>
            <a:ext cx="10798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8320" y="1920960"/>
            <a:ext cx="1073952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319640" y="2087640"/>
            <a:ext cx="4046400" cy="42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7960" y="120600"/>
            <a:ext cx="10798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98320" y="1920960"/>
            <a:ext cx="1073952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762360" y="2232000"/>
            <a:ext cx="4878360" cy="437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97960" y="120600"/>
            <a:ext cx="10798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8320" y="1920960"/>
            <a:ext cx="1073952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959280" y="1943280"/>
            <a:ext cx="4640040" cy="46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7960" y="120600"/>
            <a:ext cx="10798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8320" y="1920960"/>
            <a:ext cx="1073952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727440" y="1920960"/>
            <a:ext cx="4695840" cy="44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97960" y="120600"/>
            <a:ext cx="10798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98320" y="1920960"/>
            <a:ext cx="1073952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456000" y="1800360"/>
            <a:ext cx="5472000" cy="47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97960" y="120600"/>
            <a:ext cx="10798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8320" y="1920960"/>
            <a:ext cx="1073952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743280" y="1920960"/>
            <a:ext cx="5040360" cy="4736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15T16:59:02Z</dcterms:created>
  <dc:creator/>
  <dc:description/>
  <dc:language>en-US</dc:language>
  <cp:lastModifiedBy/>
  <dcterms:modified xsi:type="dcterms:W3CDTF">2020-12-02T20:17:45Z</dcterms:modified>
  <cp:revision>3</cp:revision>
  <dc:subject/>
  <dc:title>Vivid</dc:title>
</cp:coreProperties>
</file>